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7BA6F-6EA4-4F5A-89F6-132ECC68A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C8640-44AE-4CE4-B58F-90F8031FB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19635-0957-477C-BDF0-DED694317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44EBA-197E-4864-8237-A73AB5CF0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D810E-B537-45EE-803D-85B56555A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8E724-CEDB-4343-9877-3A0988BCC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C5FFE-D4AB-43EB-9410-732859036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1620C-55E6-4834-8CDD-2FD3DEF6B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49232-8702-49CB-974E-F25534C2B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E73E4-7001-4480-B811-9E96BD1F3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0AABD-2ED6-4E2B-94EB-C9362DA18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55D3B-063A-4ABE-B4D6-5C4E5EE72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0AAD8-CFDD-4059-A951-EFFF3152C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A3A8E-A6C2-4850-84D6-24746EAC0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AC6CE-5417-455C-AD97-62C395245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AEDCA-B933-488B-A70A-DB1FCD149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4E07F-F331-4E80-ABD6-D9E389586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43D9D-5295-4ABC-81D4-06AAD2E53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C1CE8-8739-454B-BD12-ED8D12999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95B7D-78C1-4999-9825-F672C401D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A4945-F228-4302-A083-D29F36B10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AC9CA-008D-453F-B2C1-BBB762506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1BCAE-F02F-4FB8-9061-7753DAAD3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62730-B4BB-41A6-8B1C-E75B3A700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3B9FE-7A87-4750-8C3E-333CA00914E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E454A-FFBC-41BF-A6F0-91B536C717F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61880" y="369720"/>
            <a:ext cx="1165320" cy="641520"/>
          </a:xfrm>
          <a:prstGeom prst="flowChartDecision">
            <a:avLst/>
          </a:prstGeom>
          <a:solidFill>
            <a:srgbClr val="006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000" y="243000"/>
            <a:ext cx="855504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Научно-технический центр «Гектор»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Программный комплекс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«Гектор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Проектировщик-строитель»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Версия ЭКСПЕРТ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Инструмент для разработки проектов организации строительства (ПОС),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проектов производства работ (ППР), технологических карт (ТК)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Свидетельство РФ о регистрации в Реестре программ для ЭВМ № 2007613520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185760" y="25884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8115480" y="26496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730080" y="4043520"/>
            <a:ext cx="8158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00"/>
                </a:solidFill>
                <a:latin typeface="Times New Roman"/>
              </a:rPr>
              <a:t>Программный модуль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Times New Roman"/>
              </a:rPr>
              <a:t>«Выбор кранов»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18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19" name="" descr="">
              <a:hlinkClick r:id="" action="ppaction://hlinkshowjump?jump=endshow"/>
            </p:cNvPr>
            <p:cNvPicPr/>
            <p:nvPr/>
          </p:nvPicPr>
          <p:blipFill>
            <a:blip r:embed="rId3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0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1563840" y="21600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Зоны ограничения работы крана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7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308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309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10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312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/>
          <p:nvPr/>
        </p:nvSpPr>
        <p:spPr>
          <a:xfrm>
            <a:off x="892080" y="4856040"/>
            <a:ext cx="7589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Программный модуль позволяет указать зоны ограничения работы крана по углу и вылету, вычертить зоны предупреждения и проставить координаты вершин зон ограничения относительно указанных пользователем точек отсчета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4"/>
          <a:stretch/>
        </p:blipFill>
        <p:spPr>
          <a:xfrm>
            <a:off x="2220840" y="1114560"/>
            <a:ext cx="5027760" cy="3458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563840" y="291960"/>
            <a:ext cx="65768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Изображение зоны ограничения работы крана на чертеже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17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318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319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0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322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pic>
        <p:nvPicPr>
          <p:cNvPr id="323" name="" descr=""/>
          <p:cNvPicPr/>
          <p:nvPr/>
        </p:nvPicPr>
        <p:blipFill>
          <a:blip r:embed="rId4"/>
          <a:stretch/>
        </p:blipFill>
        <p:spPr>
          <a:xfrm>
            <a:off x="1319040" y="1380960"/>
            <a:ext cx="6820200" cy="4962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649440" y="1314360"/>
            <a:ext cx="8121600" cy="450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imes New Roman"/>
              </a:rPr>
              <a:t>Программный модуль предназначен для: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268200" indent="-268200" algn="just">
              <a:spcBef>
                <a:spcPts val="476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imes New Roman"/>
              </a:rPr>
              <a:t>подбора башенных, автомобильных, пневмоколесных, гусеничных и железнодорожных кранов с учетом их исполнений и стрелового оборудования по грузоподъемности, высоте подъема, вылету, параметрам грузов и грузозахватных приспособлений, а также с учетом безопасного приближения крана (рельсового пути) к зданиям и препятствиям;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268200" indent="-268200" algn="just">
              <a:spcBef>
                <a:spcPts val="476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imes New Roman"/>
              </a:rPr>
              <a:t>построения на чертеже изображений крана в плане и разрезе;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268200" indent="-268200" algn="just">
              <a:spcBef>
                <a:spcPts val="476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imes New Roman"/>
              </a:rPr>
              <a:t>построения  опасной и рабочей зон;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268200" indent="-268200" algn="just">
              <a:spcBef>
                <a:spcPts val="476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imes New Roman"/>
              </a:rPr>
              <a:t>формирования отчета по расчету опасной зоны выбранного крана;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268200" indent="-268200" algn="just">
              <a:spcBef>
                <a:spcPts val="476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imes New Roman"/>
              </a:rPr>
              <a:t>вычерчивания графика грузовысотных характеристик выбранного крана;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268200" indent="-268200" algn="just">
              <a:spcBef>
                <a:spcPts val="476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imes New Roman"/>
              </a:rPr>
              <a:t>автоматизированного формирования фрагментов пояснительной записки  ПОС и ППРк.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511280" y="174600"/>
            <a:ext cx="65772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Краткое описание функций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программного модуля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25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26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7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563840" y="29196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Главное окно программного модуля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3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3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973080" y="5446800"/>
            <a:ext cx="75898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Программный модуль позволяет осуществлять выбор крана, построение на чертеже изображений крана в плане и разрезе, включая построение  опасной и рабочей зон, вычерчивание графика грузовысотных характеристик и автоматизированное формирование фрагментов пояснительной записки  ПОС и ППРк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2522520" y="905040"/>
            <a:ext cx="4629240" cy="445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1563840" y="29196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Выбор крана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4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4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758880" y="5616720"/>
            <a:ext cx="75898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Выбор башенных, автомобильных, пневмоколесных, гусеничных и железнодорожных кранов производится с учетом их исполнений и стрелового оборудования по грузоподъемности, высоте подъема, вылету, параметрам грузов и грузозахватных приспособлений, а также с учетом безопасного приближения крана (рельсового пути) к зданиям и препятствиям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4"/>
          <a:stretch/>
        </p:blipFill>
        <p:spPr>
          <a:xfrm>
            <a:off x="1719360" y="858960"/>
            <a:ext cx="5629320" cy="475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1563840" y="29196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Здания и препятствия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5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5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798480" y="3498840"/>
            <a:ext cx="7589880" cy="14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Программный модуль позволяет осуществлять проверку кранов с учетом точки стоянки и списка препятствий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Для каждого препятствия 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задаются его название и тип, а также высота и разность между нулевыми отметками стоянки крана и здания. После добавления препятствия в список и указания его параметров, можно указать контур препятствия на чертеже или начертить его самостоятельно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4"/>
          <a:stretch/>
        </p:blipFill>
        <p:spPr>
          <a:xfrm>
            <a:off x="2884320" y="968400"/>
            <a:ext cx="3772080" cy="2247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1563840" y="29196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Подбор крана по параметрам груза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6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6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/>
          <p:nvPr/>
        </p:nvSpPr>
        <p:spPr>
          <a:xfrm>
            <a:off x="1035000" y="5543640"/>
            <a:ext cx="75898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Подбор кранов может осуществляться на основании параметров одного или нескольких грузов. Пользователь может сформировать список грузов вручную или загрузить его из предварительно сохраненного набора, в том числе сформированного в программном модуле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"</a:t>
            </a: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Схемы строповки грузов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"</a:t>
            </a: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211400" y="134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233960" y="1930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4"/>
          <a:stretch/>
        </p:blipFill>
        <p:spPr>
          <a:xfrm>
            <a:off x="4838760" y="1219320"/>
            <a:ext cx="3930480" cy="404784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5"/>
          <a:stretch/>
        </p:blipFill>
        <p:spPr>
          <a:xfrm>
            <a:off x="520560" y="1219320"/>
            <a:ext cx="3875400" cy="4047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1563840" y="29196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Изображение крана в плане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76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77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8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80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838080" y="5997600"/>
            <a:ext cx="75898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Изображение башенных кранов в плане строится с подкрановыми путями, при этом дополнительное место стоянки может вставляться в произвольной точке подкрановых путей. Для всех типов кранов вычерчиваются линии границы опасной и рабочей зон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4"/>
          <a:stretch/>
        </p:blipFill>
        <p:spPr>
          <a:xfrm>
            <a:off x="806400" y="933480"/>
            <a:ext cx="4200480" cy="478152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5"/>
          <a:stretch/>
        </p:blipFill>
        <p:spPr>
          <a:xfrm>
            <a:off x="5122800" y="933480"/>
            <a:ext cx="3475080" cy="474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1563840" y="29196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cc00"/>
                </a:solidFill>
                <a:latin typeface="Times New Roman"/>
              </a:rPr>
              <a:t>Изображение крана</a:t>
            </a: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i="1" lang="ru-RU" sz="2600" spc="-1" strike="noStrike">
                <a:solidFill>
                  <a:srgbClr val="ffcc00"/>
                </a:solidFill>
                <a:latin typeface="Times New Roman"/>
              </a:rPr>
              <a:t>в разрезе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87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88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9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91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92" name=""/>
          <p:cNvSpPr/>
          <p:nvPr/>
        </p:nvSpPr>
        <p:spPr>
          <a:xfrm>
            <a:off x="838080" y="5819760"/>
            <a:ext cx="7589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Вид в разрезе любого из кранов может быть вставлен в чертеж с заданием дополнительных параметров изображения (штриховой вид, привязка к зданию, подкрановые пути, вылет стрелы, рабочая и опасная зоны и т.д.)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4"/>
          <a:stretch/>
        </p:blipFill>
        <p:spPr>
          <a:xfrm>
            <a:off x="530280" y="1060560"/>
            <a:ext cx="4219560" cy="453384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5"/>
          <a:stretch/>
        </p:blipFill>
        <p:spPr>
          <a:xfrm>
            <a:off x="4805280" y="1057320"/>
            <a:ext cx="4106880" cy="452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1563840" y="291960"/>
            <a:ext cx="65768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График грузоподъемности и высоты подъема крана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7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98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99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0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1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302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768240" y="6129360"/>
            <a:ext cx="7777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Для всех кранов возможно построение графика грузоподъемности и высоты подъема крюка.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4"/>
          <a:stretch/>
        </p:blipFill>
        <p:spPr>
          <a:xfrm>
            <a:off x="2543040" y="1201680"/>
            <a:ext cx="4272120" cy="47595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8T10:55:39Z</dcterms:created>
  <dc:creator/>
  <dc:description/>
  <dc:language>en-US</dc:language>
  <cp:lastModifiedBy>-</cp:lastModifiedBy>
  <dcterms:modified xsi:type="dcterms:W3CDTF">2015-01-26T13:53:39Z</dcterms:modified>
  <cp:revision>324</cp:revision>
  <dc:subject/>
  <dc:title>Слайд 1</dc:title>
</cp:coreProperties>
</file>